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536-2EBC-42C2-9ED0-C211442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02B-4E1D-43B4-8F31-DD4BD13A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BBE-B82B-4822-93E0-003C52F6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846-AA98-47F6-B65B-0A174EFD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783-A04A-4348-9926-801C21A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8DF-A1DF-4FC2-AE19-723F03D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0FE-07AA-4093-A53B-A59F701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5A7-7628-49D1-968D-D70AE569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581-D2D6-4949-A042-ACE2A159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293-24D5-413B-A86D-298DE23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EEE-CC59-4F6D-9274-926215C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A19-1422-4188-AFEE-3E1AC3F2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D46C-A577-4A00-B26F-35C31DDE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65400"/>
            <a:ext cx="9144000" cy="3992400"/>
            <a:chOff x="0" y="1265400"/>
            <a:chExt cx="9144000" cy="39924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1265400"/>
              <a:ext cx="9144000" cy="38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54280" y="4084920"/>
              <a:ext cx="5651640" cy="117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17:54Z</dcterms:created>
  <dc:creator>Dr. Kerstin Lieneman</dc:creator>
  <dc:description/>
  <dc:language>en-US</dc:language>
  <cp:lastModifiedBy>Dr. Kerstin Lieneman</cp:lastModifiedBy>
  <dcterms:modified xsi:type="dcterms:W3CDTF">2010-04-19T12:22:47Z</dcterms:modified>
  <cp:revision>1</cp:revision>
  <dc:subject/>
  <dc:title>PowerPoint-Präsentation</dc:title>
</cp:coreProperties>
</file>